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A76-9736-441F-BE14-D0069CCC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11A-2036-4E1D-93B9-CE91E65F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E9E-6775-4764-B03E-350136B5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1E5-DA27-4F0E-A4DA-3DAE352D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BCC-63D1-44D9-86DF-6BC2A6AC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D24-892B-4158-A192-3559B135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081-0BB9-4B39-BC03-1A88C96E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37B-9D3C-4612-B7D7-F33C274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123-C83E-4D14-981D-ECB13E03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1FC-90D5-4C21-ADEA-6C7EB75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913-52C4-4084-879A-4E693E0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45D-18BD-4266-8A1F-577E198C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76C5-1405-495E-BF5B-B2CB23A5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alancing Redox Equation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tep-by-Step Gu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 Add the appropriate number of electrons to the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gnore anything in the half-reaction that is not being oxidized or re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only about balancing the oxidation numbers - ignore any charg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 on the left has an oxidation 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6 (e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r on the right has an oxidation number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r is being (Oxidized? Reduced?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-&gt; Cr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rder to think about this properly, we need to balance the Cr’s, just as we would an ordinary chemical equation (again, ignore those O’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-&gt; 2Cr</a:t>
            </a:r>
            <a:r>
              <a:rPr b="0" lang="en-US" sz="48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br>
              <a:rPr sz="4800"/>
            </a:br>
            <a:br>
              <a:rPr sz="4800"/>
            </a:b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6+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 electrons do we need to ad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6+ to equal 3+ by adding negat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we need to do this twice, since there are 2 Cr’s on each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we must add 6 electrons to the le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Balance the Cha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rge on the left side of the eq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harge on the right side of the equ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: Charge is DIFFERENT than Oxidation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c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the more negative side to balance th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-2-6+14 = +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       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ons to the more positive side to balance the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14OH</a:t>
            </a:r>
            <a:r>
              <a:rPr b="0" lang="en-US" sz="32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12+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                   </a:t>
            </a:r>
            <a:r>
              <a:rPr b="0" lang="en-US" sz="2800" spc="-1" strike="noStrike" baseline="30000">
                <a:solidFill>
                  <a:srgbClr val="333399"/>
                </a:solidFill>
                <a:latin typeface="Times New Roman"/>
              </a:rPr>
              <a:t>6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2-6= +6 -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800" spc="-1" strike="noStrike" baseline="30000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We Add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 to Bal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’s and 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 + 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O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arges the same on both s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the same numbers of atoms on both sid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o, you’re done with that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do the same to the other ha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ep 1:  Assign Oxidation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e are the rules.  The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emoriz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 metals are always 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kaline-earth metals are always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orine is alway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 is always -2, unless it’s a peroxide ion, then it’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drogen is always +1, unless it’s in a metal hydride (ex NaH) then it’s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ther Ha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Put the 2 Halves Back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ck here is:  the number of electrons on the left has to equal the number of electrons on the right, so they can be cance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3352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is case, multiply the bottom equation by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134000" y="1419120"/>
            <a:ext cx="687600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-&gt; 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2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I can add th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6e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2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6Cl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4H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600" spc="-1" strike="noStrike" baseline="30000">
                <a:solidFill>
                  <a:srgbClr val="008000"/>
                </a:solidFill>
                <a:latin typeface="Times New Roman"/>
              </a:rPr>
              <a:t>3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Cl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7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c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cancel anything that’s the same on both sides, such a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or wa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add these ha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8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multiply the top equation by 3 and the bottom equation by 5 to even out the electrons.  Then add the equations up, canceling as you would in alge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M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Cr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7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ing Oxidation Number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lement in its most stable state has an oxidation number of 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is means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 well as Na or Z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natomic ion has the same oxidation number as its char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an oxidation number of +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ing Oxidation Number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um of the oxidation numbers of the atoms in a compound must add up to zero.  If it’s a polyatomic ion, they must add up to the charge on the io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rule supplies oxidation numbers to elements for which there is no ru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has an oxidation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has an oxidation number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2 (but there are 4 of them, -8 to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eu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the oxidation number of M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1-8+x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must equal +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oxidation number of each atom i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nswers on the next slide, but do it yourself firs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 to Practice Pr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s -2, H is +1, that makes Cr 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peroxide; H is +1, O  is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 is -2, so I must be +5, so that the total compound is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 is -2, so all together -14, so each Cr must be +6 so that the whole compound is -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Separating the Reaction into 2 Half-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look at a specific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(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clearly see the two half-reaction 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S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-&gt; 2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hi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-&gt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Cr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Cl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2T18:45:38Z</dcterms:created>
  <dc:creator>Betty Christophy</dc:creator>
  <dc:description/>
  <dc:language>en-US</dc:language>
  <cp:lastModifiedBy>Dr. Christophy</cp:lastModifiedBy>
  <cp:lastPrinted>2001-12-22T22:09:21Z</cp:lastPrinted>
  <dcterms:modified xsi:type="dcterms:W3CDTF">2011-11-14T11:36:41Z</dcterms:modified>
  <cp:revision>46</cp:revision>
  <dc:subject/>
  <dc:title>Balancing Redox Equations</dc:title>
</cp:coreProperties>
</file>